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5CE-C388-4FC0-AEEC-B5CA9DC6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B9A9-C87E-4466-8BE2-70D41F59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D3E-DBA5-4CD9-A8D0-DEB95632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792F-7363-4941-BC64-759A2A85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E2E8-1CD6-4606-A11D-70646863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23DC-B3E2-41AA-961E-CE077EC8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1E19-9F50-4C12-8E3D-96D434B7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B9FF-2FBE-4364-A500-ACD0BC43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D139-3067-422F-A6F0-02094427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152D-4735-4ED7-9718-E94CE796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C590-93F8-4025-9DE4-F2851D9E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D116-7719-4467-9EA3-F3B9FA69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7099-D6E7-43A5-AC6A-67FE96EA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856E-3CB4-478D-B15D-8CD7D20D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8133-6DD4-4E50-A813-4005BE58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09A3-F658-40AB-B349-A1AD5BDF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5ED7-16CE-4758-800E-9D8CFCB5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12A-2B13-44D6-B3A9-0FDD69A6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60B5-5AD4-44AA-B64E-538E6773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F6F2-E9B2-4B3C-9903-9D2077F8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F61-BAD6-41C2-A665-3AEEC249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A72-2499-4561-AB99-7C9B6E21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2DB-D66B-4D7B-BD27-71202347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3EFE-FE31-47C7-8046-10DEB9D4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0848-EC00-42AA-BC30-11201BACC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ABE7-EE32-40AA-8CAA-6472862EC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atmosphere.mpg.de/media/archive/3452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ceandrilling.org/Documents/Oceanus/Lith/Lith3HR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hapter 5 Biogeochemical Cycl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e Washington Case Stud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[Map of Washington]"/>
          <p:cNvPicPr/>
          <p:nvPr/>
        </p:nvPicPr>
        <p:blipFill>
          <a:blip r:embed="rId1"/>
          <a:stretch/>
        </p:blipFill>
        <p:spPr>
          <a:xfrm>
            <a:off x="1447920" y="22096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Map of Global Tectonic and Volcanic Activity of the Last One Million Years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ydrologic Cycle: Ch 19 in detail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Image of hydrologic cycle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jor Global Cyc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b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 we find C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it have an atm st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ight carbon cycle be thrown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appens if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he Carbo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seous (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.  Most important organic compou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33520" y="2514600"/>
            <a:ext cx="53316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867280" y="3124080"/>
            <a:ext cx="99072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Nitrogen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do we find 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it have an atm st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might the nitrogen cycle be thrown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appens if out of bala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itrogen Cyc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 most of the atm (about 80%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Lightning along Oswalt Road near Overbrook, OK, 28 Mar 0"/>
          <p:cNvPicPr/>
          <p:nvPr/>
        </p:nvPicPr>
        <p:blipFill>
          <a:blip r:embed="rId1"/>
          <a:stretch/>
        </p:blipFill>
        <p:spPr>
          <a:xfrm>
            <a:off x="4495680" y="3962520"/>
            <a:ext cx="4245120" cy="2895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Bugs"/>
          <p:cNvPicPr/>
          <p:nvPr/>
        </p:nvPicPr>
        <p:blipFill>
          <a:blip r:embed="rId2"/>
          <a:stretch/>
        </p:blipFill>
        <p:spPr>
          <a:xfrm>
            <a:off x="4495680" y="762120"/>
            <a:ext cx="4191120" cy="2984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399720" y="2286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0 m. ton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4038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 m. tons an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8229600" cy="61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itrogen cycle key steps!!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rst in atmosphere as N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n in the soil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itrogen fixation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ixes N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a form plants can u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ther bacteria convert ammonia into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nitrate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 N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6392880" y="3886200"/>
            <a:ext cx="27511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o living thing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Plants absorb nitrates and ammonia b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ssimil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plant roo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971800"/>
            <a:ext cx="5029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k into soil agai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ack into the atm aga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3657600"/>
            <a:ext cx="22860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762120" y="4343400"/>
            <a:ext cx="160020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5" name="" descr="nitrogen cycle1.gif (124063 bytes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943600" y="685800"/>
            <a:ext cx="2362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80% N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a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4495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mmonif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60958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trification ste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09680" y="5257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trification ste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ssimi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itrogen fix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nitr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ymbiosis - Crop Rot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648320" cy="48006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403848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us has no atm st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es this affect its’ use by l.t.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hosphorus Cyc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No gaseous ph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red in rocks and organic material in so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nks to microbial action, changed to phosphates  (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HP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which plants can access. (slow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683560" cy="65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a biogeochemical cycle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 a chem takes through air, water, soil, orgs. and back to air or so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me taken to cycle var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ous elements fas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gaseous slow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Geologic Cyc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tonic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continent spreading and converging"/>
          <p:cNvPicPr/>
          <p:nvPr/>
        </p:nvPicPr>
        <p:blipFill>
          <a:blip r:embed="rId1"/>
          <a:stretch/>
        </p:blipFill>
        <p:spPr>
          <a:xfrm>
            <a:off x="457200" y="2286000"/>
            <a:ext cx="83059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p layer (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lithosphe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is constantly created and destroyed.  Large segments (tectonic plates) move past one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form fault  =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gent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gent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form fault  = slid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191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403848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gent = colli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vergent = sprea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990720"/>
            <a:ext cx="8229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00:23Z</dcterms:created>
  <dc:creator>tosborne</dc:creator>
  <dc:description/>
  <dc:language>en-US</dc:language>
  <cp:lastModifiedBy>tosborne</cp:lastModifiedBy>
  <dcterms:modified xsi:type="dcterms:W3CDTF">2010-09-30T14:41:23Z</dcterms:modified>
  <cp:revision>41</cp:revision>
  <dc:subject/>
  <dc:title>Chapter 4 Biogeochemical Cycles</dc:title>
</cp:coreProperties>
</file>